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514-8BDA-40F5-98CC-6ECEEE5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865-709A-4643-83F8-91C16241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CD6-0DD6-42E2-8D73-BAED094D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2D0-0E76-4F20-9316-197700AF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2656-360F-4E5E-ABFF-3A9B20AA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CE5-5A19-499C-BA83-08758B48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8DD6-BEF5-4CDB-B60D-9EB10C2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4F59-A87F-44F0-AE7B-B78E4A7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C08A-7A82-4131-9FCE-F356CD3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C73-2C4B-441C-89DA-7B58C37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B54E-B51C-4C5E-BC2C-5362DF5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F39-4671-47A3-8512-E263B890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C73E-BC18-472B-890C-A021D7E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974-9FF2-4D85-8532-BC96B2E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59D5-8533-4A27-B96E-336794A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B7D-6608-4AE9-936B-BC217BFD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C368-A8B3-4D2C-A670-39B435C7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29C-35B7-432F-9033-D783A66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63F-9905-48AA-963C-01E0402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AB3-B6D8-4C69-AE69-2B81448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705-A024-495F-A167-851EE77D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FC8-F0CD-4B30-8D75-5EFC546D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F2B-E6B7-483B-AF0E-D8D9E66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AF3-DD3B-4713-A9EE-E5362B1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4C8-A0F4-4CE6-BEDE-434D7CE1544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30BC-931A-4B6C-B0D2-F2B4B11ADD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Pers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arning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haran Albuo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less dominate than my right brain is 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y Intelligence type is Physical Awarness Intelligence that means tha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Am very coordinat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develop and contr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figure out how to perform a move or tas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earns best through touching or saying it alou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so you can now how to lear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I can do this when I need hel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 that means that I am Kinesthetic: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technique is Abstract Sequential that means that I creative and imaginative, neat, and order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4:21Z</dcterms:created>
  <dc:creator>dharan albuoy</dc:creator>
  <dc:description/>
  <dc:language>en-US</dc:language>
  <cp:lastModifiedBy>dharan albuoy</cp:lastModifiedBy>
  <dcterms:modified xsi:type="dcterms:W3CDTF">2010-10-19T14:37:32Z</dcterms:modified>
  <cp:revision>3</cp:revision>
  <dc:subject/>
  <dc:title>My Personal Learning Profile by</dc:title>
</cp:coreProperties>
</file>